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1A4-65A0-42FD-B641-C579DD3E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3BC-E871-4BF7-A14E-DBAC581B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C29-5762-4FF8-914B-4667C0EB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970-7B5A-4539-AA92-9141292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1F1-C259-4097-8CE7-DDEA2F83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C666-D26B-4908-AF1C-92326B2E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F7E-9C3C-4A12-8294-5F4B9A23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9C69-A771-40FF-928D-14ECFAB1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1BDB-6794-4988-9A09-D6E45015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2C3-32E1-41FA-B17F-812D67D8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E51F-6B96-479E-9868-06B89EE3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4DA-BC84-46C3-AFA6-14B1EBCF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0109-5F27-4E51-BCE7-AD802CD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280C-6F63-4095-AC6B-514628A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BCCE-2C72-4B05-804E-C2DB4CD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C396-0061-43E2-84AB-70A27E09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4ED0-1545-4DF1-BFA8-91C5593C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739-3126-41A8-BAFA-830B2122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FEA-9A34-4E9C-8E34-D334BD0C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FE3-3CB5-4CF7-A251-B8C91037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3A5-7BC2-47DC-AECF-46E4CB3B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236-7451-4F0D-84A9-7F048F4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FAD-6BE0-4F68-AC49-17122FD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011-6DE0-4D1B-9102-F0EE809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BDFA-0ACD-4AC9-8610-50FA94DBD2F1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CA5-E83F-48BE-97D4-4499A106BA6D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630360" y="6103800"/>
            <a:ext cx="30619440" cy="12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</a:t>
            </a:r>
            <a:r>
              <a:rPr b="1" lang="pt-BR" sz="70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6560" y="7848720"/>
            <a:ext cx="3199464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Sociais e Comunicação - Direito - Indianópolis (trata-se de um exemplo: 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738920" y="1152360"/>
            <a:ext cx="23512680" cy="366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Apoios: SANTANDER - Programa Santander 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versidades de Bolsas Graduação e</a:t>
            </a:r>
            <a:endParaRPr b="0" lang="en-US" sz="7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000" spc="-1" strike="noStrike">
                <a:solidFill>
                  <a:srgbClr val="333333"/>
                </a:solidFill>
                <a:latin typeface="Arial"/>
              </a:rPr>
              <a:t>UNIP - Vice-Reitoria de Pós-Graduação e Pesquisa</a:t>
            </a:r>
            <a:r>
              <a:rPr b="1" lang="pt-BR" sz="6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rcRect l="11655" t="4981" r="12175" b="31887"/>
          <a:stretch/>
        </p:blipFill>
        <p:spPr>
          <a:xfrm>
            <a:off x="6291360" y="13274640"/>
            <a:ext cx="19297440" cy="17951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Users\POS\Pictures\Logos\LogoTarja_ViceReitoria.png"/>
          <p:cNvPicPr/>
          <p:nvPr/>
        </p:nvPicPr>
        <p:blipFill>
          <a:blip r:embed="rId2"/>
          <a:stretch/>
        </p:blipFill>
        <p:spPr>
          <a:xfrm>
            <a:off x="1459080" y="145080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26:31Z</dcterms:modified>
  <cp:revision>190</cp:revision>
  <dc:subject/>
  <dc:title>Slide sem título</dc:title>
</cp:coreProperties>
</file>